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A30-A6C7-4EDC-BE22-5077B11E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863-6CAD-41FC-A2FC-6CBCEB8F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8FB-CB3B-402B-8752-66B32113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91D-7C7D-4693-8268-DA76B1C8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1AA2-8C9F-4928-9CEB-6466EABA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F733-F859-42C4-B660-0A246AFF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2C9A-0643-44A5-8468-D8A660C1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9DCB-A2D1-4BA8-859A-C9C09486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1A86-89AC-4D2D-87A1-15A31E00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B3D4-EE07-4D0A-8D44-8B336E0B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FCD5-F3B3-41CE-B27B-9E8E10CE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302-30DC-4600-85A8-2B176E2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D983-2286-44F3-96CD-04B2965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032E-9918-4B78-980D-39404650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B3C8-DE68-479C-A40B-049240FA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398C-8583-442C-9903-28F8896D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CEA6-0C36-4132-8EF5-1F3353E4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476-607D-4900-BA63-56152186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243-AC0D-4C97-A659-D35B684D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FF4-6B03-41BF-A226-193A6AED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2FC-A464-4780-A713-A19FFF1C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61B-7FF1-4D06-8BAC-51389FB4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D7C-21B7-414E-B9A7-7821D4D8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B6B-604E-4ACA-9C6C-F7F6CF61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8252-57F0-4C7E-AC8A-C975BA3AF45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261A-ED36-49A2-A57D-D73286FC971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aschepuzia.kaschenko.ru/index.php/&#1060;&#1072;&#1081;&#1083;:Matsa_skrijali.jpg-" TargetMode="External"/><Relationship Id="rId2" Type="http://schemas.openxmlformats.org/officeDocument/2006/relationships/hyperlink" Target="http://www.abc-people.com/shop/moses_prophet.htm" TargetMode="External"/><Relationship Id="rId3" Type="http://schemas.openxmlformats.org/officeDocument/2006/relationships/hyperlink" Target="http://www.abc-people.com/shop/moses_prophet.htm" TargetMode="External"/><Relationship Id="rId4" Type="http://schemas.openxmlformats.org/officeDocument/2006/relationships/hyperlink" Target="http://www.abc-people.com/shop/moses_prophet.htm" TargetMode="External"/><Relationship Id="rId5" Type="http://schemas.openxmlformats.org/officeDocument/2006/relationships/hyperlink" Target="http://www.abc-people.com/shop/moses_prophet.htm" TargetMode="External"/><Relationship Id="rId6" Type="http://schemas.openxmlformats.org/officeDocument/2006/relationships/hyperlink" Target="http://www.abc-people.com/shop/moses_prophet.htm" TargetMode="External"/><Relationship Id="rId7" Type="http://schemas.openxmlformats.org/officeDocument/2006/relationships/hyperlink" Target="http://www.abc-people.com/shop/moses_prophet.htm" TargetMode="External"/><Relationship Id="rId8" Type="http://schemas.openxmlformats.org/officeDocument/2006/relationships/hyperlink" Target="http://www.abc-people.com/shop/moses_prophet.ht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28814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пове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http://im2-tub.yandex.net/i?id=153807802-07"/>
          <p:cNvPicPr/>
          <p:nvPr/>
        </p:nvPicPr>
        <p:blipFill>
          <a:blip r:embed="rId1"/>
          <a:stretch/>
        </p:blipFill>
        <p:spPr>
          <a:xfrm>
            <a:off x="4002120" y="333360"/>
            <a:ext cx="207180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322720" cy="309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780000" y="335772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2160720" cy="3500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26028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ы православн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5280" y="1196640"/>
            <a:ext cx="8424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Я — Господь Бог твой, да не будет у тебя других богов, кроме Ме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Не делай себе кумира и ни какого изображения того, что на небе вверху, что на земле внизу и что в водах ниже земли; не поклоняйся и не служи 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Не произноси имени Господа Бога твоего напрас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Помни день покоя, чтобы проводить его свято; шесть дней трудись и совершай в них все твои дела, а день седьмой — день покоя — да будет посвящен Господу Богу твое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79640" y="26028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заповедей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89000"/>
            <a:ext cx="66243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Почитай отца твоего и матерь твою, чтобы тебе было хорошо и чтобы ты долго жил на зем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Не убив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Не прелюбодейству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Не кра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Не л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Не завиду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468360" y="5373720"/>
            <a:ext cx="835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2160360" cy="350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4437000"/>
            <a:ext cx="56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юди,любите друг друга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49132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Железо ржа съедает, а завист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ливый от зависти погиба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 ищи правды в други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оли её в тебе н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ору потакать – ч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мому воро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 свете всё найдёшь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роме отца и матер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силие яд для душ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6072120" y="15001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завиду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кругленный прямоугольник 6"/>
          <p:cNvSpPr/>
          <p:nvPr/>
        </p:nvSpPr>
        <p:spPr>
          <a:xfrm>
            <a:off x="6072120" y="24289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укр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кругленный прямоугольник 7"/>
          <p:cNvSpPr/>
          <p:nvPr/>
        </p:nvSpPr>
        <p:spPr>
          <a:xfrm>
            <a:off x="6072120" y="33577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убив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8"/>
          <p:cNvSpPr/>
          <p:nvPr/>
        </p:nvSpPr>
        <p:spPr>
          <a:xfrm>
            <a:off x="6072120" y="435780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л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9"/>
          <p:cNvSpPr/>
          <p:nvPr/>
        </p:nvSpPr>
        <p:spPr>
          <a:xfrm>
            <a:off x="6143760" y="5357880"/>
            <a:ext cx="2214360" cy="9288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читай отца твоего и матерь тв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404640"/>
            <a:ext cx="7274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резентации  используются личные фотографии ав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Египет: монастырь Святой Екатерины), гора Моисея- фото с монастыря Св.Екатер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р презент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Кондукторова С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КОУ «Лахденпох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9500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kaschepuzia.kaschenko.ru/index.php/%D0%A4%D0%B0%D0%B9%D0%BB:Matsa_skrijali.jpg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учебник из дер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94172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 Моисей,гора Синай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www.abc-people.com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6"/>
              </a:rPr>
              <a:t>shop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8"/>
              </a:rPr>
              <a:t>moses_prophet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36572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урсы из интерне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8T14:06:29Z</dcterms:modified>
  <cp:revision>29</cp:revision>
  <dc:subject/>
  <dc:title>Слайд 1</dc:title>
</cp:coreProperties>
</file>